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24E-EA7F-43C5-8D1A-7550FF2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565B-9A4A-4934-9347-85A46D7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2AF-3647-4B27-9BB7-39A8C75F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5DF-4DE3-44EB-AA87-5319D2A6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8C6-16B7-4839-8E62-549D687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832-11F4-4CE4-B41A-012F35F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27B-363E-4041-BF1A-04DB8AF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BC15-A067-4D95-A4CF-1C1602A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58A-4955-4138-8AC0-4B1A9AF2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51F-31F9-402D-BBE0-B91B5D2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0D6-E213-4E7C-999E-3BCA41F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350-5073-458F-83F5-3D52757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AF9-289F-4E43-8B77-7CC243AC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438280"/>
            <a:ext cx="2104920" cy="2859120"/>
            <a:chOff x="457200" y="2438280"/>
            <a:chExt cx="2104920" cy="2859120"/>
          </a:xfrm>
        </p:grpSpPr>
        <p:graphicFrame>
          <p:nvGraphicFramePr>
            <p:cNvPr id="45" name=""/>
            <p:cNvGraphicFramePr/>
            <p:nvPr/>
          </p:nvGraphicFramePr>
          <p:xfrm>
            <a:off x="457200" y="3352680"/>
            <a:ext cx="1166760" cy="42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352680"/>
                      <a:ext cx="11667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flipH="1">
              <a:off x="761400" y="2438280"/>
              <a:ext cx="1447560" cy="2438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1081080" y="4876920"/>
            <a:ext cx="985680" cy="42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1080" y="4876920"/>
                      <a:ext cx="98568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2209680" y="3505320"/>
            <a:ext cx="352440" cy="51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3505320"/>
                      <a:ext cx="352440" cy="5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5800" y="2514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" name=""/>
          <p:cNvGraphicFramePr/>
          <p:nvPr/>
        </p:nvGraphicFramePr>
        <p:xfrm>
          <a:off x="4114800" y="2209680"/>
          <a:ext cx="257508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09680"/>
                    <a:ext cx="25750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114800" y="2895480"/>
          <a:ext cx="278748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895480"/>
                    <a:ext cx="27874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14800" y="3505320"/>
          <a:ext cx="296244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3505320"/>
                    <a:ext cx="2962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4038480"/>
          <a:ext cx="99720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9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095880" y="4038480"/>
          <a:ext cx="9972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962520" y="4572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29200" y="4495680"/>
          <a:ext cx="1920960" cy="65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4495680"/>
                    <a:ext cx="1920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952880" y="5105520"/>
          <a:ext cx="2095560" cy="73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105520"/>
                    <a:ext cx="20955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2920" y="5257800"/>
          <a:ext cx="10429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2920" y="5257800"/>
                    <a:ext cx="1042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052960" y="2286000"/>
          <a:ext cx="257508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2960" y="2286000"/>
                    <a:ext cx="2575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0040" y="2971800"/>
          <a:ext cx="253188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0040" y="2971800"/>
                    <a:ext cx="25318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354640" y="3581280"/>
          <a:ext cx="2357280" cy="6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4640" y="3581280"/>
                    <a:ext cx="23572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715000" y="4267080"/>
          <a:ext cx="169704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267080"/>
                    <a:ext cx="169704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91000" y="4876920"/>
          <a:ext cx="1828800" cy="73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1000" y="4876920"/>
                    <a:ext cx="182880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228240" y="2438280"/>
            <a:ext cx="4091400" cy="2022480"/>
            <a:chOff x="228240" y="2438280"/>
            <a:chExt cx="4091400" cy="2022480"/>
          </a:xfrm>
        </p:grpSpPr>
        <p:sp>
          <p:nvSpPr>
            <p:cNvPr id="84" name=""/>
            <p:cNvSpPr/>
            <p:nvPr/>
          </p:nvSpPr>
          <p:spPr>
            <a:xfrm flipH="1">
              <a:off x="227880" y="2438280"/>
              <a:ext cx="2895480" cy="1524240"/>
            </a:xfrm>
            <a:prstGeom prst="rtTriangl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1219320" y="2819520"/>
            <a:ext cx="387360" cy="431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2819520"/>
                      <a:ext cx="38736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1055520" y="3897360"/>
            <a:ext cx="1173240" cy="563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55520" y="3897360"/>
                      <a:ext cx="117324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3102120" y="2994120"/>
            <a:ext cx="1217520" cy="519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02120" y="2994120"/>
                      <a:ext cx="121752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457200" y="243828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20960" y="2414520"/>
          <a:ext cx="25747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241452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2971800"/>
          <a:ext cx="419076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419076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3733920"/>
          <a:ext cx="318600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733920"/>
                    <a:ext cx="31860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4800600"/>
          <a:ext cx="22255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800600"/>
                    <a:ext cx="2225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5554800" y="1752480"/>
            <a:ext cx="3589200" cy="2576520"/>
            <a:chOff x="5554800" y="1752480"/>
            <a:chExt cx="3589200" cy="2576520"/>
          </a:xfrm>
        </p:grpSpPr>
        <p:sp>
          <p:nvSpPr>
            <p:cNvPr id="103" name=""/>
            <p:cNvSpPr/>
            <p:nvPr/>
          </p:nvSpPr>
          <p:spPr>
            <a:xfrm flipH="1">
              <a:off x="5554800" y="1752480"/>
              <a:ext cx="3124080" cy="2057400"/>
            </a:xfrm>
            <a:prstGeom prst="rtTriangl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6469200" y="2286000"/>
            <a:ext cx="653760" cy="519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69200" y="2286000"/>
                      <a:ext cx="6537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8713800" y="2557440"/>
            <a:ext cx="430200" cy="43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713800" y="2557440"/>
                      <a:ext cx="43020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6545160" y="3809880"/>
            <a:ext cx="1389240" cy="519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45160" y="3809880"/>
                      <a:ext cx="1389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630760" y="1905120"/>
              <a:ext cx="762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3200400" y="3733920"/>
          <a:ext cx="2571840" cy="65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0400" y="3733920"/>
                    <a:ext cx="25718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76520" y="4343400"/>
          <a:ext cx="1476360" cy="519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6520" y="4343400"/>
                    <a:ext cx="1476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267080" y="4343400"/>
          <a:ext cx="1476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4343400"/>
                    <a:ext cx="1476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80880" y="4876920"/>
            <a:ext cx="511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09680" y="4952880"/>
          <a:ext cx="227016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9680" y="4952880"/>
                    <a:ext cx="2270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520" y="5334120"/>
          <a:ext cx="604800" cy="652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3520" y="5334120"/>
                    <a:ext cx="6048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90720" y="5486400"/>
          <a:ext cx="1263600" cy="51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90720" y="5486400"/>
                    <a:ext cx="1263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09680" y="5486400"/>
          <a:ext cx="2265480" cy="51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09680" y="5486400"/>
                    <a:ext cx="2265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5800" y="5867280"/>
          <a:ext cx="3795840" cy="735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85800" y="5867280"/>
                    <a:ext cx="3795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838080" y="6019920"/>
          <a:ext cx="40176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38080" y="60199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0" y="6019920"/>
          <a:ext cx="401760" cy="403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86000" y="60199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143000" y="5943600"/>
          <a:ext cx="893880" cy="4842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143000" y="5943600"/>
                    <a:ext cx="8938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66880" y="5943600"/>
          <a:ext cx="892440" cy="484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66880" y="5943600"/>
                    <a:ext cx="892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880" y="6373800"/>
          <a:ext cx="1660680" cy="484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80880" y="6373800"/>
                    <a:ext cx="1660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394000" y="6373800"/>
          <a:ext cx="1373040" cy="4842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94000" y="6373800"/>
                    <a:ext cx="1373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629400" y="4487760"/>
          <a:ext cx="1828800" cy="6447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629400" y="4487760"/>
                    <a:ext cx="1828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791320" y="5176800"/>
          <a:ext cx="3047760" cy="649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791320" y="5176800"/>
                    <a:ext cx="30477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286000"/>
          <a:ext cx="283680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2836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92440" y="2743200"/>
          <a:ext cx="301140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92440" y="2743200"/>
                    <a:ext cx="3011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62480" y="3497400"/>
          <a:ext cx="69192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62480" y="3497400"/>
                    <a:ext cx="6919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14800" y="3505320"/>
          <a:ext cx="121428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505320"/>
                    <a:ext cx="12142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5257800" y="3505320"/>
          <a:ext cx="134460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3505320"/>
                    <a:ext cx="13446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419720" y="4114800"/>
          <a:ext cx="212076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19720" y="4114800"/>
                    <a:ext cx="2120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587840" y="4648320"/>
          <a:ext cx="118764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87840" y="4648320"/>
                    <a:ext cx="1187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39800" y="2286000"/>
          <a:ext cx="227016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286000"/>
                    <a:ext cx="2270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038480" y="2743200"/>
          <a:ext cx="257508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743200"/>
                    <a:ext cx="25750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91120" y="3505320"/>
          <a:ext cx="43020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3505320"/>
                    <a:ext cx="4302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546440" y="3505320"/>
          <a:ext cx="9590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6440" y="3505320"/>
                    <a:ext cx="9590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616720" y="3505320"/>
          <a:ext cx="10839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16720" y="3505320"/>
                    <a:ext cx="10839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952880" y="4114800"/>
          <a:ext cx="158616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4114800"/>
                    <a:ext cx="1586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181480" y="4724280"/>
          <a:ext cx="1019160" cy="644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81480" y="4724280"/>
                    <a:ext cx="10191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termine whether the given lengths are sides of a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0960" y="2286000"/>
          <a:ext cx="2787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2286000"/>
                    <a:ext cx="2787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038480" y="2057400"/>
          <a:ext cx="25765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057400"/>
                    <a:ext cx="25765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733920" y="2743200"/>
          <a:ext cx="3054240" cy="65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2743200"/>
                    <a:ext cx="30542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505320" y="3497400"/>
          <a:ext cx="60480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497400"/>
                    <a:ext cx="604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038480" y="3505320"/>
          <a:ext cx="147636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505320"/>
                    <a:ext cx="1476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86400" y="3505320"/>
          <a:ext cx="15667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566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62640" y="4114800"/>
          <a:ext cx="244620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62640" y="4114800"/>
                    <a:ext cx="2446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105520" y="4648320"/>
          <a:ext cx="118728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4648320"/>
                    <a:ext cx="11872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7:16:53Z</dcterms:modified>
  <cp:revision>74</cp:revision>
  <dc:subject/>
  <dc:title>No Slide Title</dc:title>
</cp:coreProperties>
</file>